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C6B-4896-49BF-A36F-F8936AB8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E0C3-92E1-4BAF-812A-CC01AA05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EF9-8947-4048-843E-80739639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5FB-CCA5-43B7-BDD6-452032F1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1E5-B484-41E9-A111-14E25D42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18B-9A6C-4E15-A4A2-812D7D7B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D0E1-9CD1-493E-89E4-FF7E9D6D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770-F1CA-46A8-8263-89C08B9E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202-AFD0-44EE-BD13-06CFF5C2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9A2-16F1-4768-8CBF-FD74396B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01E-05F2-48D5-BB51-856E45F0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C4F-875C-42B4-84FE-4E7D8FB2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6cb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A668-32D7-4D4F-8E43-1365D228398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zoutback.com.au/flags/Source/10.htm" TargetMode="External"/><Relationship Id="rId2" Type="http://schemas.openxmlformats.org/officeDocument/2006/relationships/hyperlink" Target="http://www.ozoutback.com.au/flags/Source/10.htm" TargetMode="External"/><Relationship Id="rId3" Type="http://schemas.openxmlformats.org/officeDocument/2006/relationships/hyperlink" Target="http://www.australianexplorer.com/torres_strait_islands.htm" TargetMode="External"/><Relationship Id="rId4" Type="http://schemas.openxmlformats.org/officeDocument/2006/relationships/hyperlink" Target="http://en.wikipedia.org/wiki/Torres_Strait_Islands" TargetMode="External"/><Relationship Id="rId5" Type="http://schemas.openxmlformats.org/officeDocument/2006/relationships/hyperlink" Target="http://www.janeresture.com/torres_strait/index.htm" TargetMode="External"/><Relationship Id="rId6" Type="http://schemas.openxmlformats.org/officeDocument/2006/relationships/hyperlink" Target="http://www.lib.utexas.edu/maps/australia/australia_rel_1999.jpg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2133720"/>
            <a:ext cx="864072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800" spc="-1" strike="noStrike">
                <a:solidFill>
                  <a:srgbClr val="000066"/>
                </a:solidFill>
                <a:latin typeface="Arial"/>
              </a:rPr>
              <a:t>Torres</a:t>
            </a:r>
            <a:r>
              <a:rPr b="0" lang="en-AU" sz="6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7200" spc="-1" strike="noStrike">
                <a:solidFill>
                  <a:srgbClr val="ffffff"/>
                </a:solidFill>
                <a:latin typeface="Arial"/>
              </a:rPr>
              <a:t>Strait</a:t>
            </a:r>
            <a:r>
              <a:rPr b="0" lang="en-AU" sz="6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AU" sz="6600" spc="-1" strike="noStrike">
                <a:solidFill>
                  <a:srgbClr val="3399ff"/>
                </a:solidFill>
                <a:latin typeface="Arial"/>
              </a:rPr>
              <a:t>Islan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35280" y="6381360"/>
            <a:ext cx="2808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y: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y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añ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14896 2.91397E-006 L -0.9967 2.91397E-006 E">
                                      <p:cBhvr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arrow1_up-right_lg_black"/>
          <p:cNvPicPr/>
          <p:nvPr/>
        </p:nvPicPr>
        <p:blipFill>
          <a:blip r:embed="rId2"/>
          <a:stretch/>
        </p:blipFill>
        <p:spPr>
          <a:xfrm flipH="1" rot="8997600">
            <a:off x="5651640" y="333000"/>
            <a:ext cx="606240" cy="79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rrow1_up-right_lg_black"/>
          <p:cNvPicPr/>
          <p:nvPr/>
        </p:nvPicPr>
        <p:blipFill>
          <a:blip r:embed="rId3"/>
          <a:stretch/>
        </p:blipFill>
        <p:spPr>
          <a:xfrm flipH="1" rot="19015800">
            <a:off x="6732000" y="259920"/>
            <a:ext cx="6062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388080" y="228600"/>
            <a:ext cx="500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orres Stait Is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55320" y="2214720"/>
            <a:ext cx="58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Located</a:t>
            </a: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just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near</a:t>
            </a: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66"/>
                </a:solidFill>
                <a:latin typeface="Arial"/>
              </a:rPr>
              <a:t>Cape York Penins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998280" y="2928960"/>
            <a:ext cx="31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least</a:t>
            </a: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66"/>
                </a:solidFill>
                <a:latin typeface="Arial"/>
              </a:rPr>
              <a:t>274</a:t>
            </a: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mall</a:t>
            </a: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s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14200" y="1071720"/>
            <a:ext cx="4556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150km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between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Australias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tip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A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coast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Papua New Guin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Copy of torres%20strait%20map"/>
          <p:cNvPicPr/>
          <p:nvPr/>
        </p:nvPicPr>
        <p:blipFill>
          <a:blip r:embed="rId1"/>
          <a:stretch/>
        </p:blipFill>
        <p:spPr>
          <a:xfrm>
            <a:off x="4788000" y="1052640"/>
            <a:ext cx="4095720" cy="5581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9"/>
          <p:cNvSpPr/>
          <p:nvPr/>
        </p:nvSpPr>
        <p:spPr>
          <a:xfrm>
            <a:off x="2014560" y="378612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North Western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227880" y="4429080"/>
            <a:ext cx="25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66"/>
                </a:solidFill>
                <a:latin typeface="Arial"/>
              </a:rPr>
              <a:t>Eastern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652320" y="5429160"/>
            <a:ext cx="25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66"/>
                </a:solidFill>
                <a:latin typeface="Arial"/>
              </a:rPr>
              <a:t>Western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869560" y="4714920"/>
            <a:ext cx="244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66"/>
                </a:solidFill>
                <a:latin typeface="Arial"/>
              </a:rPr>
              <a:t>Central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3225600" y="5857920"/>
            <a:ext cx="20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66"/>
                </a:solidFill>
                <a:latin typeface="Arial"/>
              </a:rPr>
              <a:t>Inne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p1764ar"/>
          <p:cNvPicPr/>
          <p:nvPr/>
        </p:nvPicPr>
        <p:blipFill>
          <a:blip r:embed="rId1"/>
          <a:srcRect l="4634" t="13130" r="4634" b="46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0" y="1052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Torres Strait</a:t>
            </a: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Island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population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8000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nowa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24000" y="2205000"/>
            <a:ext cx="86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6500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1" lang="en-A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boriginal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Islanders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lives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rres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St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072960" y="4572000"/>
            <a:ext cx="32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About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993600" y="5715000"/>
            <a:ext cx="61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community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70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7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671120" y="3500280"/>
            <a:ext cx="56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48,000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living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ma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2126880" y="404640"/>
            <a:ext cx="52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ymboliz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unity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sla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54880" y="162864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eaddres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known as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h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478520" y="4437000"/>
            <a:ext cx="38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fi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la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958880" y="479736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093080" y="1628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08000" y="2565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116720" y="5950080"/>
            <a:ext cx="73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ttribut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Bernar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mok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5726520" y="227664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0" descr="arrow1_up-right_lg_black"/>
          <p:cNvPicPr/>
          <p:nvPr/>
        </p:nvPicPr>
        <p:blipFill>
          <a:blip r:embed="rId2"/>
          <a:stretch/>
        </p:blipFill>
        <p:spPr>
          <a:xfrm>
            <a:off x="5796000" y="2708280"/>
            <a:ext cx="577800" cy="75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arrow1_up-right_lg_black"/>
          <p:cNvPicPr/>
          <p:nvPr/>
        </p:nvPicPr>
        <p:blipFill>
          <a:blip r:embed="rId3"/>
          <a:stretch/>
        </p:blipFill>
        <p:spPr>
          <a:xfrm flipH="1" rot="9904200">
            <a:off x="538920" y="2997360"/>
            <a:ext cx="606600" cy="79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arrow1_up-right_lg_black"/>
          <p:cNvPicPr/>
          <p:nvPr/>
        </p:nvPicPr>
        <p:blipFill>
          <a:blip r:embed="rId4"/>
          <a:stretch/>
        </p:blipFill>
        <p:spPr>
          <a:xfrm rot="16540800">
            <a:off x="6552000" y="1448280"/>
            <a:ext cx="574560" cy="7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arrow1_up-right_lg_black"/>
          <p:cNvPicPr/>
          <p:nvPr/>
        </p:nvPicPr>
        <p:blipFill>
          <a:blip r:embed="rId5"/>
          <a:stretch/>
        </p:blipFill>
        <p:spPr>
          <a:xfrm flipH="1" rot="14321400">
            <a:off x="7436880" y="5028120"/>
            <a:ext cx="606960" cy="863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arrow1_up-right_lg_black"/>
          <p:cNvPicPr/>
          <p:nvPr/>
        </p:nvPicPr>
        <p:blipFill>
          <a:blip r:embed="rId6"/>
          <a:stretch/>
        </p:blipFill>
        <p:spPr>
          <a:xfrm flipH="1" rot="1016400">
            <a:off x="4858560" y="4005000"/>
            <a:ext cx="606600" cy="79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arrow1_up-right_lg_black"/>
          <p:cNvPicPr/>
          <p:nvPr/>
        </p:nvPicPr>
        <p:blipFill>
          <a:blip r:embed="rId7"/>
          <a:stretch/>
        </p:blipFill>
        <p:spPr>
          <a:xfrm flipH="1" rot="9663000">
            <a:off x="2843280" y="1988280"/>
            <a:ext cx="606240" cy="7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5" descr="norfolk560a"/>
          <p:cNvPicPr/>
          <p:nvPr/>
        </p:nvPicPr>
        <p:blipFill>
          <a:blip r:embed="rId1"/>
          <a:srcRect l="7776" t="9164" r="8572" b="9356"/>
          <a:stretch/>
        </p:blipFill>
        <p:spPr>
          <a:xfrm rot="20725200">
            <a:off x="250560" y="0"/>
            <a:ext cx="4319640" cy="298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norfolk560"/>
          <p:cNvPicPr/>
          <p:nvPr/>
        </p:nvPicPr>
        <p:blipFill>
          <a:blip r:embed="rId2"/>
          <a:srcRect l="5679" t="8627" r="4724" b="16449"/>
          <a:stretch/>
        </p:blipFill>
        <p:spPr>
          <a:xfrm rot="21156600">
            <a:off x="468000" y="3284640"/>
            <a:ext cx="475128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torres-map"/>
          <p:cNvPicPr/>
          <p:nvPr/>
        </p:nvPicPr>
        <p:blipFill>
          <a:blip r:embed="rId3"/>
          <a:stretch/>
        </p:blipFill>
        <p:spPr>
          <a:xfrm rot="521400">
            <a:off x="4102200" y="404280"/>
            <a:ext cx="5041800" cy="3089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vaztorres"/>
          <p:cNvPicPr/>
          <p:nvPr/>
        </p:nvPicPr>
        <p:blipFill>
          <a:blip r:embed="rId4"/>
          <a:stretch/>
        </p:blipFill>
        <p:spPr>
          <a:xfrm>
            <a:off x="5651640" y="3716280"/>
            <a:ext cx="3348000" cy="2886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a127066xl"/>
          <p:cNvPicPr/>
          <p:nvPr/>
        </p:nvPicPr>
        <p:blipFill>
          <a:blip r:embed="rId5"/>
          <a:stretch/>
        </p:blipFill>
        <p:spPr>
          <a:xfrm rot="470400">
            <a:off x="2627280" y="2060640"/>
            <a:ext cx="4025880" cy="23619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1428840" y="1285920"/>
            <a:ext cx="684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1606: The Spanish navigator named Torres sailed through a straight in Cape York Penins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24M2422-56D-aerial-torres-strait-islands"/>
          <p:cNvPicPr/>
          <p:nvPr/>
        </p:nvPicPr>
        <p:blipFill>
          <a:blip r:embed="rId1"/>
          <a:srcRect l="0" t="0" r="0" b="14103"/>
          <a:stretch/>
        </p:blipFill>
        <p:spPr>
          <a:xfrm rot="20995200">
            <a:off x="274680" y="256680"/>
            <a:ext cx="3887640" cy="280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24M2422-63D-aerial-torres-strait-islands"/>
          <p:cNvPicPr/>
          <p:nvPr/>
        </p:nvPicPr>
        <p:blipFill>
          <a:blip r:embed="rId2"/>
          <a:srcRect l="0" t="0" r="0" b="12810"/>
          <a:stretch/>
        </p:blipFill>
        <p:spPr>
          <a:xfrm rot="20934600">
            <a:off x="4427640" y="3284280"/>
            <a:ext cx="4716360" cy="339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44020-004-5E4708EE"/>
          <p:cNvPicPr/>
          <p:nvPr/>
        </p:nvPicPr>
        <p:blipFill>
          <a:blip r:embed="rId3"/>
          <a:stretch/>
        </p:blipFill>
        <p:spPr>
          <a:xfrm rot="1763400">
            <a:off x="179280" y="4216320"/>
            <a:ext cx="3822840" cy="264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4M2422-67D-aerial-torres-strait-islands"/>
          <p:cNvPicPr/>
          <p:nvPr/>
        </p:nvPicPr>
        <p:blipFill>
          <a:blip r:embed="rId4"/>
          <a:srcRect l="0" t="0" r="0" b="12810"/>
          <a:stretch/>
        </p:blipFill>
        <p:spPr>
          <a:xfrm rot="1324800">
            <a:off x="5435280" y="115920"/>
            <a:ext cx="3564000" cy="26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121682-004-0C1BD0DE"/>
          <p:cNvPicPr/>
          <p:nvPr/>
        </p:nvPicPr>
        <p:blipFill>
          <a:blip r:embed="rId5"/>
          <a:stretch/>
        </p:blipFill>
        <p:spPr>
          <a:xfrm rot="199200">
            <a:off x="3779640" y="1125000"/>
            <a:ext cx="3024000" cy="1990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capeyorkpeninsula"/>
          <p:cNvPicPr/>
          <p:nvPr/>
        </p:nvPicPr>
        <p:blipFill>
          <a:blip r:embed="rId6"/>
          <a:stretch/>
        </p:blipFill>
        <p:spPr>
          <a:xfrm rot="508200">
            <a:off x="2268360" y="2781000"/>
            <a:ext cx="2886120" cy="2165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1"/>
          <p:cNvSpPr/>
          <p:nvPr/>
        </p:nvSpPr>
        <p:spPr>
          <a:xfrm>
            <a:off x="1908000" y="1484280"/>
            <a:ext cx="53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1769-1771: the strait was then named Torres Strait by Dalrymple after Luis Baez de Tor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71680" y="9997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zoutback.com.au/flags/Source/10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ustralianexplorer.com/torres_strait_islan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n.wikipedia.org/wiki/Torres_Strait_Is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janeresture.com/torres_strait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lib.utexas.edu/maps/australia/australia_rel_199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</a:rPr>
              <a:t>http://www.oceanwideimages.com/images/12417/large/24M2422-63D-aerial-torres-strait-isl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</a:rPr>
              <a:t>http://www.hsc.csu.edu.au/ab_studies/rights/global/social_justice_global/sjwelcome.responsenew2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</a:rPr>
              <a:t>http://www.google.com.au/imgres?imgurl=http://www.causamerita.com/vaztorres.gif&amp;imgrefurl=http://www.causamerita.com/descob_person_i.htm&amp;usg=__oZaSMSKksqNawxyguDtFQrCBmGI=&amp;h=194&amp;w=225&amp;sz=23&amp;hl=en&amp;start=34&amp;um=1&amp;itbs=1&amp;tbnid=BupvyMhEDKCsxM:&amp;tbnh=93&amp;tbnw=108&amp;prev=/images%3Fq%3Dluis%2Bvaez%2Bde%2Btorres%26start%3D21%26um%3D1%26hl%3Den%26safe%3Dactive%26sa%3DN%26ndsp%3D21%26tbs%3Disch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</a:rPr>
              <a:t>http://www.nationmaster.com/encyclopedia/Luis-Vaez-de-Tor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</a:rPr>
              <a:t>http://www.google.com.au/imgres?imgurl=http://www.shop.nsw.gov.au/shopnsw/images/pubs/agency85%255Ca127066lg.jpg&amp;imgrefurl=http://www.shop.nsw.gov.au/proddetails.jsp%3Fpublication%3D9238&amp;usg=__M5-HAqYUuMNbGmbwDtJ0_R2JvZQ=&amp;h=117&amp;w=200&amp;sz=38&amp;hl=en&amp;start=6&amp;um=1&amp;itbs=1&amp;tbnid=V8M2rjUzuRHsTM:&amp;tbnh=61&amp;tbnw=104&amp;prev=/images%3Fq%3Dluis%2Bvaez%2Bde%2Btorres%26um%3D1%26hl%3Den%26safe%3Dactive%26sa%3DG%26tbs%3Disch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5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5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5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5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5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5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5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5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5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5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5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5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5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5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01:31:43Z</dcterms:created>
  <dc:creator>Reservoir District Secondary College</dc:creator>
  <dc:description/>
  <dc:language>en-US</dc:language>
  <cp:lastModifiedBy>Zyra Bañez</cp:lastModifiedBy>
  <dcterms:modified xsi:type="dcterms:W3CDTF">2010-05-30T09:48:14Z</dcterms:modified>
  <cp:revision>34</cp:revision>
  <dc:subject/>
  <dc:title>Torres Strait Islands</dc:title>
</cp:coreProperties>
</file>